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8.jpeg" ContentType="image/jpeg"/>
  <Override PartName="/ppt/media/image30.png" ContentType="image/png"/>
  <Override PartName="/ppt/media/image6.jpeg" ContentType="image/jpeg"/>
  <Override PartName="/ppt/media/image27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3.jpeg" ContentType="image/jpeg"/>
  <Override PartName="/ppt/media/drumroll.wav" ContentType="audio/x-wav"/>
  <Override PartName="/ppt/media/image34.jpeg" ContentType="image/jpeg"/>
  <Override PartName="/ppt/media/image37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41.png" ContentType="image/png"/>
  <Override PartName="/ppt/media/image13.png" ContentType="image/pn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7697-5B76-4253-8847-C50844F1BD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7E1B-990A-40A8-9BB4-5581AF709E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0DC1-8EC8-40E2-A8AF-DBEDD2085A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B88F-CDD2-469F-8867-87C3A78D78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684-F249-4904-A9B9-241A12F0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F4C-28BC-482B-95B0-16A6EB08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E99-E916-43CA-950E-BA0A2805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433-15E2-44AC-B866-6C17BF33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5C92-E847-44C1-BDF3-516D5A02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D687-8CB1-4F12-8461-62107B2A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41B0-A720-4996-A4EA-5B015B96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9674-3861-4BE3-A69E-DB8A5503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14DA-E971-46B6-81E0-346278BE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92F3-E5D8-4D4D-ADC7-EDD29666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BC11-E93C-4AD0-8AEB-3193BC33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DC2-369F-485F-8CD9-8CC42474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1727-B703-4AA3-BAC3-BB5B3C3C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64AC-06B4-4108-BD5E-5FD90CEB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BF11-C790-4E7D-B40B-5D6F69A8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37ED-EF9B-4564-923E-5C471B7B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5F5B-10D2-4A02-874E-04E94DCB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0E6BF-83D4-423D-B160-23E4CA1E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8ACCC-BCA4-4748-A6FA-19397B09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BEA3-81D8-4D8F-A4A8-DCF17317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FB3BE-C9DF-47BF-8F60-84D58408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F1070-2FA6-47D5-B5C3-7C2C8107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A40-9DF0-4285-84F0-8E7DCDA5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C848-6458-49FC-A246-DB78DF30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C81F4-6A31-44F5-9691-B1106559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8DDB8-3AB4-43E0-ADB4-453C1B76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56E0F-FCBD-4E6C-93F7-281996CD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4AF5E-AC0C-49B0-903D-601CA614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5463C-862F-40F6-B141-EFA5660E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F69D8-A5C1-4510-9231-C259CB03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B7F-7438-4E48-83DD-24973278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4D2-B21D-4607-A308-8FEE50B7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531-4377-4081-9748-E70D2D28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448-8B5F-4940-96C9-6E5229DD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706-E253-453C-98B8-5C3FFC26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CDC-EAB3-4413-BE01-F0DF7A5F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A2E0-F71A-493A-8FEE-56A1226C50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76C3-EF93-482E-A5A2-0F993C15E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8184-49FB-41BA-9355-D5074C287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10 лет со дня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родинского сра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Файл:Battle of Borodino panorama fragment 1.jpg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429080"/>
          </a:xfrm>
          <a:prstGeom prst="rect">
            <a:avLst/>
          </a:prstGeom>
          <a:ln w="0">
            <a:noFill/>
          </a:ln>
        </p:spPr>
      </p:pic>
      <p:pic>
        <p:nvPicPr>
          <p:cNvPr id="132" name="Бородинский марш1.mp3" descr=""/>
          <p:cNvPicPr/>
          <p:nvPr/>
        </p:nvPicPr>
        <p:blipFill>
          <a:blip r:embed="rId2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00440" y="214200"/>
            <a:ext cx="34002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оле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ородински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3573000"/>
            <a:ext cx="3240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. И. Кут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омандном пункте в день Бородинского с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Файл:Vereshagin.Napoleon near Borodino.jpg"/>
          <p:cNvPicPr/>
          <p:nvPr/>
        </p:nvPicPr>
        <p:blipFill>
          <a:blip r:embed="rId1"/>
          <a:stretch/>
        </p:blipFill>
        <p:spPr>
          <a:xfrm>
            <a:off x="250920" y="189000"/>
            <a:ext cx="5113080" cy="30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Файл:Kutuzovborodino.jpg"/>
          <p:cNvPicPr/>
          <p:nvPr/>
        </p:nvPicPr>
        <p:blipFill>
          <a:blip r:embed="rId2"/>
          <a:stretch/>
        </p:blipFill>
        <p:spPr>
          <a:xfrm>
            <a:off x="4000680" y="3429000"/>
            <a:ext cx="49291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428760" y="229680"/>
            <a:ext cx="84294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енеральная би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БОРОДИНСКОЕ СРА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мпании 1812 между русскими и наполеоновскими войскам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6 август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7 сентября) в район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. Бородина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24 км к западу от Мос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5880" y="4786200"/>
          <a:ext cx="7715160" cy="1463760"/>
        </p:xfrm>
        <a:graphic>
          <a:graphicData uri="http://schemas.openxmlformats.org/drawingml/2006/table">
            <a:tbl>
              <a:tblPr/>
              <a:tblGrid>
                <a:gridCol w="3857400"/>
                <a:gridCol w="3857760"/>
              </a:tblGrid>
              <a:tr h="5191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ы стор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−135 тыс. чел.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 оруд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−120 тыс. чел.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0−640 оруд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Picture 2" descr="Файл:Flag of France.svg"/>
          <p:cNvPicPr/>
          <p:nvPr/>
        </p:nvPicPr>
        <p:blipFill>
          <a:blip r:embed="rId1"/>
          <a:stretch/>
        </p:blipFill>
        <p:spPr>
          <a:xfrm>
            <a:off x="1857240" y="3214800"/>
            <a:ext cx="1571760" cy="104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Файл:Flag of Russia.svg"/>
          <p:cNvPicPr/>
          <p:nvPr/>
        </p:nvPicPr>
        <p:blipFill>
          <a:blip r:embed="rId2"/>
          <a:stretch/>
        </p:blipFill>
        <p:spPr>
          <a:xfrm>
            <a:off x="5786280" y="314316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56760" y="1500120"/>
            <a:ext cx="40388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тузов приказал пронести по войскам икону </a:t>
            </a: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Смоленской Божьей Матер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отслужить молеб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4714920" y="857160"/>
            <a:ext cx="403236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brdn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0" y="14400"/>
            <a:ext cx="4392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Вам не видать таких сражени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Носились знамена, как тени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В дыму огонь блес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Звучал булат, картечь визж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Рука бойцов колоть уст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И ядрам пролетать мешала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Гора кровавых 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Users\Пользователь\Downloads\149603-1024x768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0" y="0"/>
            <a:ext cx="471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d9"/>
                </a:solidFill>
                <a:latin typeface="Arial"/>
              </a:rPr>
              <a:t>Изведал враг в тот день нема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d9"/>
                </a:solidFill>
                <a:latin typeface="Arial"/>
              </a:rPr>
              <a:t>Что значит русский бой удалый,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d9"/>
                </a:solidFill>
                <a:latin typeface="Arial"/>
              </a:rPr>
              <a:t>Наш рукопашный бой!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d9"/>
                </a:solidFill>
                <a:latin typeface="Arial"/>
              </a:rPr>
              <a:t>Земля тряслась - как наши груд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d9"/>
                </a:solidFill>
                <a:latin typeface="Arial"/>
              </a:rPr>
              <a:t>Смешались в кучу кони, люд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d9"/>
                </a:solidFill>
                <a:latin typeface="Arial"/>
              </a:rPr>
              <a:t>И залпы тысячи орудий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d9"/>
                </a:solidFill>
                <a:latin typeface="Arial"/>
              </a:rPr>
              <a:t>Слились в протяжный вой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5" descr="Бородинское сражение. Художник В. Шевченко. 1970-е"/>
          <p:cNvPicPr/>
          <p:nvPr/>
        </p:nvPicPr>
        <p:blipFill>
          <a:blip r:embed="rId1"/>
          <a:stretch/>
        </p:blipFill>
        <p:spPr>
          <a:xfrm>
            <a:off x="3708360" y="200160"/>
            <a:ext cx="5292720" cy="6443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2285640"/>
            <a:ext cx="3929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у</a:t>
            </a: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 була</a:t>
            </a: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а</a:t>
            </a: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р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ь ви</a:t>
            </a: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з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71280" y="4367520"/>
            <a:ext cx="900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Бородинском сражении его войска защищали левый фланг русской позиции и приняли на себя в начале б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й удар превосходящих сил Наполе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йко обороняя занятые рубежи, Багратион лично водил свои части в контратаки, в одной из которых получил тяжелую рану осколком грана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Файл:Bagration P I.jpg"/>
          <p:cNvPicPr/>
          <p:nvPr/>
        </p:nvPicPr>
        <p:blipFill>
          <a:blip r:embed="rId1"/>
          <a:stretch/>
        </p:blipFill>
        <p:spPr>
          <a:xfrm>
            <a:off x="142920" y="142920"/>
            <a:ext cx="3143160" cy="40482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3786120" y="500040"/>
            <a:ext cx="492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АГРАТИ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етр Иванови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1765-1812)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нязь, российский генер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214200" y="227520"/>
            <a:ext cx="62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6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захвата флешей (укрепления) основная борьба развернулась за центр русской позиции — батарею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евског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ая в 9 и 11 часов утра подверглась двум сильным атакам против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Файл:Rajevskij N N.jpg"/>
          <p:cNvPicPr/>
          <p:nvPr/>
        </p:nvPicPr>
        <p:blipFill>
          <a:blip r:embed="rId1"/>
          <a:stretch/>
        </p:blipFill>
        <p:spPr>
          <a:xfrm>
            <a:off x="6215040" y="142920"/>
            <a:ext cx="2735280" cy="3143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Файл:Lejb Guard Litov attack at Borodino.jpg"/>
          <p:cNvPicPr/>
          <p:nvPr/>
        </p:nvPicPr>
        <p:blipFill>
          <a:blip r:embed="rId2"/>
          <a:stretch/>
        </p:blipFill>
        <p:spPr>
          <a:xfrm>
            <a:off x="214200" y="3286080"/>
            <a:ext cx="5059440" cy="3357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Файл:Открытка Бородино 1900-е.jpg"/>
          <p:cNvPicPr/>
          <p:nvPr/>
        </p:nvPicPr>
        <p:blipFill>
          <a:blip r:embed="rId1"/>
          <a:stretch/>
        </p:blipFill>
        <p:spPr>
          <a:xfrm>
            <a:off x="5214960" y="4286160"/>
            <a:ext cx="3714840" cy="23860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2"/>
          <p:cNvSpPr/>
          <p:nvPr/>
        </p:nvSpPr>
        <p:spPr>
          <a:xfrm>
            <a:off x="214200" y="5715000"/>
            <a:ext cx="52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о гибели генерал-май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А. Туч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214200" y="1357200"/>
            <a:ext cx="89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чков, стремясь ликвидир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асность, принял реш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ы к возвращению кург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лично организов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атаку во главе полк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вловских гренадер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урган был возвращен, но сам генерал-лейтена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ил смертель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3" descr="Файл:Tuchkov 1 N A.jpg"/>
          <p:cNvPicPr/>
          <p:nvPr/>
        </p:nvPicPr>
        <p:blipFill>
          <a:blip r:embed="rId2"/>
          <a:stretch/>
        </p:blipFill>
        <p:spPr>
          <a:xfrm>
            <a:off x="214200" y="214200"/>
            <a:ext cx="2714760" cy="30736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6"/>
          <p:cNvSpPr/>
          <p:nvPr/>
        </p:nvSpPr>
        <p:spPr>
          <a:xfrm>
            <a:off x="2958480" y="214200"/>
            <a:ext cx="594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учков Николай Алекс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енерал - лейтен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214200" y="419220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ородинском сражении пехотная дивизия Лихачева обороняла батарею Раевского (центр русской позиции). Когда противник ворвался на батарею, Лихачев (тяжелобольной) бросился навстречу со шпагой в руке, был исколот штыками и захвачен в плен; умер от 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5" descr="Файл:Lihachyov Pyotr Gavrilovich.jpg"/>
          <p:cNvPicPr/>
          <p:nvPr/>
        </p:nvPicPr>
        <p:blipFill>
          <a:blip r:embed="rId1"/>
          <a:stretch/>
        </p:blipFill>
        <p:spPr>
          <a:xfrm>
            <a:off x="142920" y="142920"/>
            <a:ext cx="3429000" cy="39672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"/>
          <p:cNvSpPr/>
          <p:nvPr/>
        </p:nvSpPr>
        <p:spPr>
          <a:xfrm>
            <a:off x="3500280" y="1214280"/>
            <a:ext cx="5500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ИХАЧ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етр Гаврил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енерал-май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хаил Юрьевич Лермо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760" y="2071440"/>
            <a:ext cx="40384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вестный русский поэт прожил очень короткую жизнь, но успел создать огромный литератур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wp1rf9mn"/>
          <p:cNvPicPr/>
          <p:nvPr/>
        </p:nvPicPr>
        <p:blipFill>
          <a:blip r:embed="rId1"/>
          <a:stretch/>
        </p:blipFill>
        <p:spPr>
          <a:xfrm>
            <a:off x="4788000" y="1484280"/>
            <a:ext cx="37447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01"/>
          <p:cNvPicPr/>
          <p:nvPr/>
        </p:nvPicPr>
        <p:blipFill>
          <a:blip r:embed="rId1"/>
          <a:stretch/>
        </p:blipFill>
        <p:spPr>
          <a:xfrm>
            <a:off x="0" y="0"/>
            <a:ext cx="4500720" cy="68025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4140360" y="33336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567320" y="357120"/>
            <a:ext cx="450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одинское сражение продолжалось 12 часов. Прославленный французский полководец не решил в нем ни одной из поставленных задач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илая поле боя тысячами трупов, он захватил главные опорные пункты русской позиции — Семеновскую высоту (Багратионовы флеши) и высоту Курганную (батарею Раевского), но не смог развить успеха. История всех его сражений не знала подобных при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3"/>
          <p:cNvSpPr/>
          <p:nvPr/>
        </p:nvSpPr>
        <p:spPr>
          <a:xfrm>
            <a:off x="142920" y="214200"/>
            <a:ext cx="878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сские войска под командованием генерала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. И. Кутузов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орной героической обороной и искусными действиями сорвали наполеоновский  план разгрома русской армии в генеральном  сраж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Файл:Kutuzov1.jpg"/>
          <p:cNvPicPr/>
          <p:nvPr/>
        </p:nvPicPr>
        <p:blipFill>
          <a:blip r:embed="rId1"/>
          <a:stretch/>
        </p:blipFill>
        <p:spPr>
          <a:xfrm>
            <a:off x="5827680" y="2786040"/>
            <a:ext cx="2986200" cy="385776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4"/>
          <p:cNvSpPr/>
          <p:nvPr/>
        </p:nvSpPr>
        <p:spPr>
          <a:xfrm>
            <a:off x="214200" y="3357720"/>
            <a:ext cx="55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сражение недаром получило названи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битвы генералов»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русских было убито 6 и ранено 23 генерала, у французов еще больше — 12 убито и 38 ран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2"/>
          <p:cNvSpPr/>
          <p:nvPr/>
        </p:nvSpPr>
        <p:spPr>
          <a:xfrm>
            <a:off x="214200" y="4929120"/>
            <a:ext cx="86439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оспоминаниям французского генерала Пеле, участника Бородинской битвы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поле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о повторял подобную фразу: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Бородинское сражение было самое прекрасное и самое грозное, французы показали себя достойными победы, a русские заслужили быть непобедимы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Users\Пользователь\Downloads\f_18557255.jpg"/>
          <p:cNvPicPr/>
          <p:nvPr/>
        </p:nvPicPr>
        <p:blipFill>
          <a:blip r:embed="rId1"/>
          <a:stretch/>
        </p:blipFill>
        <p:spPr>
          <a:xfrm>
            <a:off x="1357200" y="142920"/>
            <a:ext cx="6531120" cy="4786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1000336719[1]"/>
          <p:cNvPicPr/>
          <p:nvPr/>
        </p:nvPicPr>
        <p:blipFill>
          <a:blip r:embed="rId1"/>
          <a:stretch/>
        </p:blipFill>
        <p:spPr>
          <a:xfrm>
            <a:off x="324000" y="260280"/>
            <a:ext cx="8391240" cy="4977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482400" y="357120"/>
            <a:ext cx="68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Конец Бородинского с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14240" y="5000760"/>
          <a:ext cx="7715520" cy="1646280"/>
        </p:xfrm>
        <a:graphic>
          <a:graphicData uri="http://schemas.openxmlformats.org/drawingml/2006/table">
            <a:tbl>
              <a:tblPr/>
              <a:tblGrid>
                <a:gridCol w="3857760"/>
                <a:gridCol w="3857760"/>
              </a:tblGrid>
              <a:tr h="4572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те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−60 тыс.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−45 тыс. чел. 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4" name="Picture 2" descr="Файл:Flag of France.svg"/>
          <p:cNvPicPr/>
          <p:nvPr/>
        </p:nvPicPr>
        <p:blipFill>
          <a:blip r:embed="rId2"/>
          <a:stretch/>
        </p:blipFill>
        <p:spPr>
          <a:xfrm>
            <a:off x="785880" y="5000760"/>
            <a:ext cx="642960" cy="428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Файл:Flag of Russia.svg"/>
          <p:cNvPicPr/>
          <p:nvPr/>
        </p:nvPicPr>
        <p:blipFill>
          <a:blip r:embed="rId3"/>
          <a:stretch/>
        </p:blipFill>
        <p:spPr>
          <a:xfrm>
            <a:off x="7643880" y="5000760"/>
            <a:ext cx="714240" cy="476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14560" y="71280"/>
            <a:ext cx="44290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ш кра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812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4929120" y="1297080"/>
            <a:ext cx="3929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льцы всегда гордились своим массовым участием в Отечественной войне 1812г., где по их словам «доказывали преданность и усердие Отечеству». Французы отмечали их удивительную смелость и меткость. Боевые качества уральских казаков – смелость, решительность, бесстрашие и выносливость – отличали их во всех военных походах и сражениях. Они представляли собой довольно значительную военную силу, особенно когда действовали в привычных условиях – в лесах, степях  и горах, где они были почти неуловимыми, угнаться за ними было 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12342398_kazaki_005"/>
          <p:cNvPicPr/>
          <p:nvPr/>
        </p:nvPicPr>
        <p:blipFill>
          <a:blip r:embed="rId1"/>
          <a:stretch/>
        </p:blipFill>
        <p:spPr>
          <a:xfrm>
            <a:off x="55440" y="150840"/>
            <a:ext cx="4587840" cy="65642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99" name="россия кор..wav" descr=""/>
          <p:cNvPicPr/>
          <p:nvPr/>
        </p:nvPicPr>
        <p:blipFill>
          <a:blip r:embed="rId2"/>
          <a:stretch/>
        </p:blipFill>
        <p:spPr>
          <a:xfrm>
            <a:off x="864396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И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00720" y="500040"/>
            <a:ext cx="4543200" cy="55483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201" name="WordArt 5"/>
          <p:cNvSpPr txBox="1"/>
          <p:nvPr/>
        </p:nvSpPr>
        <p:spPr>
          <a:xfrm>
            <a:off x="5000760" y="6213600"/>
            <a:ext cx="3958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993300"/>
                  </a:solidFill>
                  <a:miter/>
                </a:ln>
                <a:solidFill>
                  <a:srgbClr val="990000"/>
                </a:solidFill>
                <a:latin typeface="a_AlgeriusCaps"/>
              </a:rPr>
              <a:t> </a:t>
            </a:r>
            <a:endParaRPr b="1" lang="en-US" sz="1800" spc="1" strike="noStrike">
              <a:ln w="3240">
                <a:solidFill>
                  <a:srgbClr val="993300"/>
                </a:solidFill>
                <a:miter/>
              </a:ln>
              <a:solidFill>
                <a:srgbClr val="990000"/>
              </a:solidFill>
              <a:latin typeface="a_AlgeriusCaps"/>
              <a:ea typeface="a_AlgeriusCaps"/>
            </a:endParaRPr>
          </a:p>
        </p:txBody>
      </p:sp>
      <p:pic>
        <p:nvPicPr>
          <p:cNvPr id="202" name="Picture 6" descr="1844"/>
          <p:cNvPicPr/>
          <p:nvPr/>
        </p:nvPicPr>
        <p:blipFill>
          <a:blip r:embed="rId2"/>
          <a:stretch/>
        </p:blipFill>
        <p:spPr>
          <a:xfrm>
            <a:off x="71280" y="500040"/>
            <a:ext cx="4357800" cy="5564160"/>
          </a:xfrm>
          <a:prstGeom prst="rect">
            <a:avLst/>
          </a:prstGeom>
          <a:ln w="9360">
            <a:solidFill>
              <a:srgbClr val="7e0000"/>
            </a:solidFill>
            <a:miter/>
          </a:ln>
        </p:spPr>
      </p:pic>
      <p:sp>
        <p:nvSpPr>
          <p:cNvPr id="203" name="TextBox 7"/>
          <p:cNvSpPr/>
          <p:nvPr/>
        </p:nvSpPr>
        <p:spPr>
          <a:xfrm>
            <a:off x="714240" y="614376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рут 1812-1816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4714920" y="60721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агословение рекр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42560" y="5072040"/>
            <a:ext cx="9001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зачьи полки отличились в первых же арьергардных боях, прикрывая отступление русской ар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6"/>
          <p:cNvSpPr/>
          <p:nvPr/>
        </p:nvSpPr>
        <p:spPr>
          <a:xfrm>
            <a:off x="5214960" y="1357200"/>
            <a:ext cx="371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ральские казаки  на поле б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12341822_kazaki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14200" y="357120"/>
            <a:ext cx="4751640" cy="45370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71920" y="70920"/>
            <a:ext cx="557208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тические приемы казаков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Л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856800"/>
            <a:ext cx="38577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Лава» - атака рассыпным строем при прямом нападении на против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ва – подвижный бесформенный, не поддающийся никакой регламентации или уставным правилам, стр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любленный боевой порядок казачьей кавалерии, изобретённый самими казаками, который наиболее соответствовал их природным качествам – сметливости, ловкости, наблюдательности, способности действовать в одиноч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казаки Лава открытка"/>
          <p:cNvPicPr/>
          <p:nvPr/>
        </p:nvPicPr>
        <p:blipFill>
          <a:blip r:embed="rId1"/>
          <a:stretch/>
        </p:blipFill>
        <p:spPr>
          <a:xfrm>
            <a:off x="3943440" y="1214280"/>
            <a:ext cx="49863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71920" y="214200"/>
            <a:ext cx="5400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тические приемы казаков. Вент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214560" y="999720"/>
            <a:ext cx="3313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 часть казаков располагалась в засаде, а другая их часть, симулируя отступление, завлекала неприятеля в заса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7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ив удобный момент, отступавшие казаки, и те, кто находился в засаде, бросались в атаку на преследовавшегося противника, который неожиданно попадал в окру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Преследование казаками отступающих французов 1827 Дезарно А"/>
          <p:cNvPicPr/>
          <p:nvPr/>
        </p:nvPicPr>
        <p:blipFill>
          <a:blip r:embed="rId1"/>
          <a:stretch/>
        </p:blipFill>
        <p:spPr>
          <a:xfrm>
            <a:off x="3143160" y="1785960"/>
            <a:ext cx="5924520" cy="41562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8"/>
          <p:cNvSpPr/>
          <p:nvPr/>
        </p:nvSpPr>
        <p:spPr>
          <a:xfrm>
            <a:off x="3714840" y="6072120"/>
            <a:ext cx="54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ледование казаками отступающих француз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59617091_ataka_Ermolova_na_zahvachennuyu_batareyu_Raevskogo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42920" y="214200"/>
            <a:ext cx="8750160" cy="580716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216" name="TextBox 5"/>
          <p:cNvSpPr/>
          <p:nvPr/>
        </p:nvSpPr>
        <p:spPr>
          <a:xfrm>
            <a:off x="285840" y="614376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ака Ермолова на захваченную батарею Рае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13840" y="1642680"/>
            <a:ext cx="403884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ихотворение «Бородино» посвящено историческим событиям 181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7" descr=""/>
          <p:cNvPicPr/>
          <p:nvPr/>
        </p:nvPicPr>
        <p:blipFill>
          <a:blip r:embed="rId1"/>
          <a:stretch/>
        </p:blipFill>
        <p:spPr>
          <a:xfrm>
            <a:off x="4429080" y="428760"/>
            <a:ext cx="4452840" cy="60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мориал воинской славы уральскому нар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5214960" y="1357200"/>
            <a:ext cx="3714840" cy="42865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3"/>
          <p:cNvSpPr/>
          <p:nvPr/>
        </p:nvSpPr>
        <p:spPr>
          <a:xfrm>
            <a:off x="0" y="5143680"/>
            <a:ext cx="571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сентября 2010г. на Бородинском поле был торжественно заложен камень на месте будущего памятника уральским воинам (башкирам), участвовавшим в Бородинском сражении 181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925783799bb7"/>
          <p:cNvPicPr/>
          <p:nvPr/>
        </p:nvPicPr>
        <p:blipFill>
          <a:blip r:embed="rId2"/>
          <a:srcRect l="5499" t="3599" r="4384" b="10546"/>
          <a:stretch/>
        </p:blipFill>
        <p:spPr>
          <a:xfrm>
            <a:off x="142920" y="1285920"/>
            <a:ext cx="43527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http://onlinereal.narod.ru/images/47/109.jpg"/>
          <p:cNvPicPr/>
          <p:nvPr/>
        </p:nvPicPr>
        <p:blipFill>
          <a:blip r:embed="rId1"/>
          <a:stretch/>
        </p:blipFill>
        <p:spPr>
          <a:xfrm>
            <a:off x="-142920" y="790560"/>
            <a:ext cx="5238720" cy="606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Париж (Челябинская область) (Россия)"/>
          <p:cNvPicPr/>
          <p:nvPr/>
        </p:nvPicPr>
        <p:blipFill>
          <a:blip r:embed="rId2"/>
          <a:stretch/>
        </p:blipFill>
        <p:spPr>
          <a:xfrm>
            <a:off x="4500720" y="4286160"/>
            <a:ext cx="4497120" cy="2428920"/>
          </a:xfrm>
          <a:prstGeom prst="rect">
            <a:avLst/>
          </a:prstGeom>
          <a:ln w="0">
            <a:noFill/>
          </a:ln>
        </p:spPr>
      </p:pic>
      <p:sp>
        <p:nvSpPr>
          <p:cNvPr id="223" name="Блок-схема: узел 7"/>
          <p:cNvSpPr/>
          <p:nvPr/>
        </p:nvSpPr>
        <p:spPr>
          <a:xfrm>
            <a:off x="4857840" y="5143680"/>
            <a:ext cx="214200" cy="2142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Блок-схема: узел 8"/>
          <p:cNvSpPr/>
          <p:nvPr/>
        </p:nvSpPr>
        <p:spPr>
          <a:xfrm>
            <a:off x="2500200" y="4643280"/>
            <a:ext cx="285840" cy="28584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3286080" y="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мять  о  войне 181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карте Челябин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3" name="drumroll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900360" y="3152160"/>
            <a:ext cx="734184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И ВЕЧНОЙ ПАМЯТЬЮ 1812 Г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3500280" y="285840"/>
            <a:ext cx="2000520" cy="2585880"/>
          </a:xfrm>
          <a:prstGeom prst="rect">
            <a:avLst/>
          </a:prstGeom>
          <a:ln w="0">
            <a:noFill/>
          </a:ln>
        </p:spPr>
      </p:pic>
      <p:pic>
        <p:nvPicPr>
          <p:cNvPr id="228" name="полно корот.wav" descr=""/>
          <p:cNvPicPr/>
          <p:nvPr/>
        </p:nvPicPr>
        <p:blipFill>
          <a:blip r:embed="rId2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47334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99760" y="0"/>
            <a:ext cx="6545160" cy="16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полеон  Бонапарт – император Фран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3840" y="2060640"/>
            <a:ext cx="44751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Я, император Франции, считаю своей важнейшей задачей сокрушить могущественное государство на Востоке. Поэтому моя «непобедимая армия» начнет вторжение через Неман в Россию летом 1812 года. Да будет та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Наполеон I"/>
          <p:cNvPicPr/>
          <p:nvPr/>
        </p:nvPicPr>
        <p:blipFill>
          <a:blip r:embed="rId1"/>
          <a:stretch/>
        </p:blipFill>
        <p:spPr>
          <a:xfrm>
            <a:off x="4929120" y="1571760"/>
            <a:ext cx="4030560" cy="4787640"/>
          </a:xfrm>
          <a:prstGeom prst="rect">
            <a:avLst/>
          </a:prstGeom>
          <a:ln w="0">
            <a:noFill/>
          </a:ln>
        </p:spPr>
      </p:pic>
      <p:pic>
        <p:nvPicPr>
          <p:cNvPr id="141" name="марсельеза_Эдит Марсельеза.mp3" descr=""/>
          <p:cNvPicPr/>
          <p:nvPr/>
        </p:nvPicPr>
        <p:blipFill>
          <a:blip r:embed="rId2"/>
          <a:stretch/>
        </p:blipFill>
        <p:spPr>
          <a:xfrm>
            <a:off x="871524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53997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то такой патриот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8760" y="199980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Arial"/>
              </a:rPr>
              <a:t>Патрио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человек, преданный интересам какого-нибудь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Arial"/>
              </a:rPr>
              <a:t>Патриотиз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преданность и любовь к своему Отечеству, своему на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b03041"/>
          <p:cNvPicPr/>
          <p:nvPr/>
        </p:nvPicPr>
        <p:blipFill>
          <a:blip r:embed="rId1"/>
          <a:stretch/>
        </p:blipFill>
        <p:spPr>
          <a:xfrm>
            <a:off x="1714680" y="-22320"/>
            <a:ext cx="575604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brdn050"/>
          <p:cNvPicPr/>
          <p:nvPr/>
        </p:nvPicPr>
        <p:blipFill>
          <a:blip r:embed="rId1"/>
          <a:stretch/>
        </p:blipFill>
        <p:spPr>
          <a:xfrm>
            <a:off x="142920" y="142920"/>
            <a:ext cx="5546520" cy="6572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5940360" y="981000"/>
            <a:ext cx="2808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а, были люди в наше врем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то, что нынешнее племя:      Богатыри - не в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лохая им досталась до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многие вернулись с поля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будь на то господня воля,      Не отдали б Москвы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57120" y="500040"/>
          <a:ext cx="8229600" cy="5810400"/>
        </p:xfrm>
        <a:graphic>
          <a:graphicData uri="http://schemas.openxmlformats.org/drawingml/2006/table">
            <a:tbl>
              <a:tblPr/>
              <a:tblGrid>
                <a:gridCol w="4103640"/>
                <a:gridCol w="4125960"/>
              </a:tblGrid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усск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ранцуз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атыри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ята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тья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ищи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чее лихое плем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руг»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рат мусью»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уз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г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сурма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5"/>
          <p:cNvSpPr/>
          <p:nvPr/>
        </p:nvSpPr>
        <p:spPr>
          <a:xfrm>
            <a:off x="142920" y="198000"/>
            <a:ext cx="8786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УТУЗОВ Михаил  Илларион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745-1813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лейший князь Смоленский (1812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сский полководец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нерал-фельдмаршал (181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214200" y="548460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тузова назначили  главнокомандующим  всеми армиями,  действовавшими  про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оле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Файл:Kutuzov by Volkov.jpg"/>
          <p:cNvPicPr/>
          <p:nvPr/>
        </p:nvPicPr>
        <p:blipFill>
          <a:blip r:embed="rId1"/>
          <a:stretch/>
        </p:blipFill>
        <p:spPr>
          <a:xfrm>
            <a:off x="6000840" y="1714680"/>
            <a:ext cx="2919240" cy="3643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Файл:Suvorov Alex V.jpg"/>
          <p:cNvPicPr/>
          <p:nvPr/>
        </p:nvPicPr>
        <p:blipFill>
          <a:blip r:embed="rId2"/>
          <a:stretch/>
        </p:blipFill>
        <p:spPr>
          <a:xfrm>
            <a:off x="214200" y="2714760"/>
            <a:ext cx="2143080" cy="27651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8"/>
          <p:cNvSpPr/>
          <p:nvPr/>
        </p:nvSpPr>
        <p:spPr>
          <a:xfrm>
            <a:off x="3083040" y="3214800"/>
            <a:ext cx="238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ександ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во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07:00:57Z</dcterms:created>
  <dc:creator>никита</dc:creator>
  <dc:description/>
  <dc:language>en-US</dc:language>
  <cp:lastModifiedBy>Volkova</cp:lastModifiedBy>
  <dcterms:modified xsi:type="dcterms:W3CDTF">2023-02-15T08:54:19Z</dcterms:modified>
  <cp:revision>59</cp:revision>
  <dc:subject/>
  <dc:title>200 лет со дня Бородинского сражения</dc:title>
</cp:coreProperties>
</file>